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9F54-52EB-4C9C-BE8F-4597BE368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BF27-2566-450D-93C8-AC6D8EB4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9604-A498-4391-AA78-87A918764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658F-F0A4-48D2-A600-22F10C811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C106-B9BD-44A9-BE82-65A17A33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1814-DA46-4D3A-9D3E-9C0B8895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1B38-75A5-485E-9F33-191AF77A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8663-6AAC-4665-BC73-FE25B331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3457-BFE9-4597-9F1E-976CA89C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CE56-AC4C-470A-BC68-94BC4057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1CC5-BF4B-4F52-8631-BF7B7D84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4A3A-8D25-437F-9186-CA7B77F4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C860-E3D2-4E8A-96A3-B2D877BE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9BC9-9ABB-4D89-A26E-E0078A5B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AC3C-873B-450D-A1B9-4C3537F4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50FA-D50F-4AC8-98DF-EFCA683C2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A2A9-6C7C-49D9-AE24-00ED75F33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4467-1E58-472F-BE1E-B36C9782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EF56-C5F2-4E8D-9855-91AA57D6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4619-981D-474B-85BF-FBFF1782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A647-410E-45CA-B944-9B70FEEF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48A5-7A60-4E6B-B552-AD008C46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FB85-AB2D-4A33-8E95-7F25B84F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1C54-B107-4692-A8F7-40185758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B10D-0ABC-46FC-8711-CD1070B2E7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8AF1-E121-4383-8923-3FDCC81F60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DS System Overview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v 15, 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igh Leve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143000"/>
            <a:ext cx="24382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h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971800"/>
            <a:ext cx="5181480" cy="32004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DS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4343400"/>
            <a:ext cx="24382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5:34:30Z</dcterms:created>
  <dc:creator>CACI</dc:creator>
  <dc:description/>
  <dc:language>en-US</dc:language>
  <cp:lastModifiedBy>CACI</cp:lastModifiedBy>
  <dcterms:modified xsi:type="dcterms:W3CDTF">2006-11-15T20:26:00Z</dcterms:modified>
  <cp:revision>2</cp:revision>
  <dc:subject/>
  <dc:title>CDS System Overview</dc:title>
</cp:coreProperties>
</file>